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94D-6E5D-42D2-A82D-9DC333F3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21A-DCF6-498E-8576-34F0D5A2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979-C136-4448-82D5-94A275CD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AEA-FD39-4141-BF50-CCD8F35B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9FD-0B57-4587-A8C9-8C87196B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658-A0C7-4E71-B155-FAEDDD4D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4E3-0408-4323-960A-5B53A656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6F7-E9CF-40F7-B28D-F79AA3CC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BDE-F461-44CD-BD9B-E76B5AFA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B0A-7306-4268-9183-D76D6A92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5B5-1B25-4B82-89B6-B968AF3A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816-0119-4B36-B2DD-3EBB789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7032-F829-4E46-B420-79F530BAD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51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l pres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os verbos irregula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9. la mochila c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b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. yo recono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onoz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1. t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tra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2. Ricardo y Pen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élope s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45960" y="3886200"/>
            <a:ext cx="671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3. las respuestas desapare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aparec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4. el mesero serv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ir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5. Tina ven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ie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6. los hermanos segu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igu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7. yo dirig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rij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8. Patricio te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06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 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ú es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9. Dorothy y su perro Toto sentir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 sien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. yo sab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1. Manuel ped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2. tú ca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3. yo parec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rezc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4. Norma sal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5. nosotros reconoc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onocem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6. yo cab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p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712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7. él oí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8. yo rehac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hag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. yo ca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9. nosotros ven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enim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0. María pensa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iens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1. Pamela supon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pon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2. Sarita resolv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suelv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3. yo ofrec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frezc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4. Tito interven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ntervien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5. nosotros serv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rvim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6. yo conduc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duzc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. Tom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s s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b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. yo dec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. los alumnos 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. Pepe y Tito d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7. nosotros o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8. yo po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n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7:50:15Z</dcterms:created>
  <dc:creator>jbarber</dc:creator>
  <dc:description/>
  <dc:language>en-US</dc:language>
  <cp:lastModifiedBy>Jessica Kaplan</cp:lastModifiedBy>
  <dcterms:modified xsi:type="dcterms:W3CDTF">2015-12-08T15:01:43Z</dcterms:modified>
  <cp:revision>24</cp:revision>
  <dc:subject/>
  <dc:title>El presente</dc:title>
</cp:coreProperties>
</file>